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2071-1A49-4EAB-8B7F-0C528BB11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13B-AF6E-42A2-8AB7-75C777AE3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016-52C6-4BC2-87E0-0E1AAAD9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B68-876F-433C-B1EC-40073B7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B36-79D1-4681-8054-59A66DA9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8A9-5F29-4E72-8F27-BD36AC75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A4D-C43B-4776-8E08-36FA8A56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B19-8A94-4E17-88B7-803517B6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9FE-69BC-4D17-9611-47B19E93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D236-2894-49CA-BFA1-35EE0F1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5AD-3E53-40E8-BD1F-A38D2AAE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B318-7C20-427D-8DE7-6B3A85A3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700-5EF7-4852-B9F3-BA36EF3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F42-692E-4DFE-AC77-3BC164F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7C6-51E7-48A9-9E39-4A01F0B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AA64-63E3-4AAA-BF15-958606B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A6F5-D851-48A9-B2CD-8BC2DD2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005-B593-4868-8C5C-EF19655D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E14A-2785-4507-AA5B-B2EF5448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23D7-41F8-4AE2-B91A-793F082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898B-4015-419D-8B90-3F1FC86D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EFA0-0356-45A7-BA0E-CCAB71B2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2629-89F0-4C70-8E51-EDFE1D9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CF9B-61A9-4C3F-A385-9944C20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E23-3645-48BE-B932-7A1A0676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6A1F-7810-4C51-BD99-F86C092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05DD-D62A-4FB8-80AF-5562773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F5EF-862F-4727-B389-60D4709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C22F-F394-41AA-95D4-0C9BC89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050B-1BA1-426C-BE7B-1B40063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CB06-2590-4D69-808F-136F460F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7314-806B-4C2A-A31F-9D5E5FAF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319D-47A0-4776-A0E3-F154C819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E990-B844-4145-BAE4-75D0F7D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E0E3-4901-4110-88D1-140FCF8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316-DB91-4349-8D1F-E59DB1B0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BCE3-07ED-41B3-BE91-7C2B74F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E282-6096-418F-B44B-03EAF31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6441-DDF2-43A7-9D3C-7877882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1A3D-BFD4-4577-A418-A46271F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AF8C-9D75-4921-B0EC-7BE0753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E39F-278A-4EBA-855C-764B4C1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D596-1747-43DF-82BC-8DA51B8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356A-E0B8-40C9-BF37-F25D630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7B73-6630-4D25-8F1C-6C8CC4A2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7476-706E-421A-A837-AD62BAD3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A25-0882-4F0B-8DEA-39464EA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7D2CC-4294-4924-B48A-4DA83C23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88CF-B031-40B1-B9D7-16954F1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DB8E-54DA-4831-9943-5D42677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B4EF-8A68-45E0-AE4B-C9AEC670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2FAC-C158-4F0D-ADB7-D7EB36B0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200A-4583-4651-B65A-4D4E832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0DDC-A4F2-438E-9865-4C9D587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A10C-9BB5-4FAB-AAE6-B8EA6BD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3624-CEBA-4E4C-A25E-71CFD51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AF72-DC7C-4E89-A5DD-9E5F256D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445-E480-4842-8424-6ED239F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EBE8-913F-4A76-81EE-28C49EE7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88EB-9DA8-4880-8C12-240EA0ED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F7C9-00AD-4309-9FA7-9E89D20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3110-530C-4269-A5D0-10F80E7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2301-96EE-48A7-980E-45F0D56A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20AC-E3DB-4CB2-BC43-C26EE31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1DCA-4CF3-4ADA-9511-B4E888B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3C060-5927-4080-BF0E-EBC2673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F017-32BD-433C-85FE-1BC9B1E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ED1D5-65D9-43DD-B85F-64D1F2B8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C40-891B-4863-B7D3-2DD4CFD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EB15-945A-41D1-B86F-FA998B91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BE4A-C901-44FB-B44B-D622CE83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49EFD-084D-44A2-93DF-CC8B3030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258DF-235E-49DF-A402-770FD2F3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3158-5A2A-44A7-BB72-6DB7E0F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1BA1-E2C6-43B6-86E5-977C969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FDFA-7213-4D43-8997-9092488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B0AAE-C01B-448B-970A-821F009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E52D-F01B-4D88-8D23-4EE0D41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E2CA-7738-4A29-AB53-647685C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115-C023-45BC-8BE2-D994F18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F808-6D01-4111-82EC-0EFCDED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C390-3B0E-456B-BD93-C0B6994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8D17-EAB1-4FB6-8699-24C21D4B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F1293-2AD4-4F1E-8B4E-48BA8FB7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71FA5-7BFB-4270-A0F7-E8864F6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B0E-6DE8-4D8E-9145-24438B8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3DB-7EED-476E-9152-A0C139C0CB3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415-5AA8-4045-BBDA-6480EB2E0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757-1383-43AE-A901-631A8CA0BC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060-8EE2-4A85-8925-265235AE5D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3C6-49F3-4BCA-9A69-9F811E14C39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CBF-EE18-4222-8833-3785E3CC934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676-B4E4-428F-BB3B-C6E99D4DB40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50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– the king of Uruk; eager for f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– Gilgamesh’s friend; faithful and dedic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mbaba – evil; deformed giant and forest guardi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IC IDEAL?  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eter Book – a manuscript of miscellaneous Anglo-Saxon poems dating from 940 AD, copied in 975 AD, and 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ai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xtremely e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perior s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the theme of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eowulf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eowulf 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nferth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unting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othgar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eats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’s mom 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erot 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yrd – pagan goddess of fat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iglaf 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owulf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mothe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 &amp; Grendel’s mothe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and Grendel’s mother’s lai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t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Trina</cp:lastModifiedBy>
  <dcterms:modified xsi:type="dcterms:W3CDTF">2009-01-07T17:23:52Z</dcterms:modified>
  <cp:revision>8</cp:revision>
  <dc:subject/>
  <dc:title>Anglo-Saxon Literature</dc:title>
</cp:coreProperties>
</file>